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972-0986-4122-A521-BA39BF68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BA6-0E39-4896-AF57-ACA52B3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E31-B2C8-4C89-B8C8-99DC1D8A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FF8-2230-4D11-9D82-D8688894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AF9-E434-45B6-B11A-35AE7D0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60C-E727-445E-9181-25F11BE0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60A-936A-4934-B522-08405B88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FA4-CDD5-4489-A41D-C8D74A01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5D8-4AB6-4F46-90E1-28080AC8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31B-61D6-432D-8404-D315874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504-8AFB-47A2-A2E4-A9CA406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7A2-62C2-42BE-9202-1EC0FC2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AA8C-184B-456A-872D-524C20C4D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457200"/>
            <a:ext cx="4114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yb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724280"/>
            <a:ext cx="6248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Tyler K , Cole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9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l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 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: 83,200 km; paved :47,590 km; unpaved: 35,610 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s and harb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 Khums, Banghazi, Darnah, Marsa al Burayqah, Misratah, Ra's Lanuf, Tobruk, Tripoli, Zuwarah. Airports: 136 (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Map of Libya"/>
          <p:cNvPicPr/>
          <p:nvPr/>
        </p:nvPicPr>
        <p:blipFill>
          <a:blip r:embed="rId1"/>
          <a:stretch/>
        </p:blipFill>
        <p:spPr>
          <a:xfrm>
            <a:off x="1066680" y="0"/>
            <a:ext cx="6766200" cy="7543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ar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79,358 sq mi (1,759,540 sq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04920" y="182880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Land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itary dictat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of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. Muammar al-Qaddafi 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of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. Muammar al-Qaddafi 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rovia, 1,348,9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6,173,5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77.0 density per sq km: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tary 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byan din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abic, Italian, and English widely understood in major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ity/r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ber and Arab 97%, Greeks, Maltese, Italians, Egyptians, Pakistanis, Turks, Indians, Tuni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lam (Sunni) 97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Holi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olution Day, September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mploymen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able la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icult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at, barley, olives, dates, citrus, vegetables, peanuts, soyb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r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ude oil, refined petroleum products, natural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forc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64 million; agriculture 17%, industry 23%, services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hinery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port equipment, semi-finished goods, food, consumer pro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rading partn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ly, Germany, Spain, Turkey, France, South Korea, UK, Tuni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cell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broadcast st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 16, FM 3, shortwav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35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 broadcast st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2 (plus one low-power rep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73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Service Providers (ISPs)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us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35Z</dcterms:created>
  <dc:creator>colesgoodling</dc:creator>
  <dc:description/>
  <dc:language>en-US</dc:language>
  <cp:lastModifiedBy>colesgoodling</cp:lastModifiedBy>
  <dcterms:modified xsi:type="dcterms:W3CDTF">2009-02-24T19:27:44Z</dcterms:modified>
  <cp:revision>4</cp:revision>
  <dc:subject/>
  <dc:title>Slide 1</dc:title>
</cp:coreProperties>
</file>